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4BD-7C74-472D-B3FC-A0977454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46C-2D5C-43DA-91BB-872E23CA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E2B-DE54-4525-88A4-16146611C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9AF-1363-4EB3-B9E7-054C57C5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0CE-BEA1-40F3-9BAA-736680FF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D93A-63F4-486B-B153-C21E6EA2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030-84CE-410A-9044-0A62A749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98C-F2E0-471B-8470-FCE7BD9B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478-8AFA-4F6F-8A31-894CC85E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18B-9A59-4741-B815-D7A63135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DA5-0F34-4B70-81B8-96944BD9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3DA-59A2-403E-8E88-BA2AD789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4CB-6D79-463E-86C6-910C49519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5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8C1D-2371-4E36-9BE6-109C558B3A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66852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начальный момент времени (например, после подачи питания на маршрутизаторы) таблица маршрутов в узле  выглядит следующим образом (т.к. узел  знает только о тех сетях, к которым подключен непосредственно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ледовательно, узел  рассылает в сети А и В вектор расстояний (А=1,В=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EAEA-7AA5-4476-85CB-70B85A820D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6750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оскольку сети C и D вовсе не фигурируют в его таблице маршрутов, они туда вносятся. В узле  име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D=2à 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9280" y="1093320"/>
            <a:ext cx="79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Сеть Е в таблице узла  отсутству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3à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1FED-63AA-4896-A7D5-450FBF0FEF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74640"/>
            <a:ext cx="806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Итоговая таблица маршрутов маршрутизатора 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B949-9782-4EB8-A5BC-164D39B72E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88560"/>
            <a:ext cx="78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ыясним, что происходит в случае, когда состояние системы неожиданно изменяется, например, маршрутизатор  отключается от сети 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11280" y="3033720"/>
            <a:ext cx="64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3C4D-B0A1-4CAC-8737-D7CC00567C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6360" y="69480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16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16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построенный на основании этой таблицы, рассылается в сеть В, чтобы маршрутизаторы, направлявшие свои данные через  в ставшие недоступными сети, если таковые маршрутизаторы существуют, соответственно изменили свои маршрутные таблиц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C2C8-BBD0-440E-B0E1-3D5BDD7732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873000"/>
            <a:ext cx="79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узле ƒ имелась следующая таблица маршрут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9DDF-CF5A-4946-83B1-C88E81CF11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6360" y="885960"/>
            <a:ext cx="79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Таким образом, узел  построил маршруты в обход поврежденного участка и восстановил достижимость всех сетей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BDDE-2B0E-40DC-9FD4-801BE791EF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1680120"/>
            <a:ext cx="7956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2. Особые случа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ацикли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. Счет до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FF42-CCA2-4B03-91BD-402C76CB3B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2000" y="403920"/>
            <a:ext cx="78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Изменение состояния RIP-систем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50920" y="2060640"/>
            <a:ext cx="716616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Tahoma"/>
              </a:rPr>
              <a:t>Протокол R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91E2-AEFA-4DFB-91B6-53F987F793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327600"/>
            <a:ext cx="8712360" cy="62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ƒ отправлял дейтаграммы в сеть А через  , то есть таблица в узле ƒ имела вид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A=2à 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2à „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1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осле отсоединения  от сети А узел ƒ получает от  вектор (A=16,B=1,C=16,D=16,E=2). Проанализировав этот вектор, ƒ делает вывод, что все указанные в нем расстояния больше значений, содержащихся в его маршрутной таблице, на основании чего этот вектор узлом ƒ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E2A6-7091-45A8-B2F5-A12DC5EBAD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792000"/>
            <a:ext cx="792144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=1à 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=3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=2à 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Очевидно, после этого содержимое таблиц узлов  и ƒ стабилизируется.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5D0E-B5C9-42DE-9DE4-3A9F2F870B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-7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чет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1449360"/>
            <a:ext cx="694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6953-954A-4C2C-8C6A-68D51A4237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40680"/>
            <a:ext cx="774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ервоначально сеть А была подсоединена к узлу‚ но в какой-то момент времени произошла авария и сеть А оказалась изолирован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о момента аварии маршрутизаторы имели следующие записи относительно сети 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‚ А=1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„ А=2à 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медленно после аварии запись в таблице маршрутов узла А изменяется на А=16à ‚ , это говорит о том, что сеть А недостижима, а точнее, что сеть А через узел ‚ недостижим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C975-3A76-43F6-A716-D8EC943848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40" y="1736640"/>
            <a:ext cx="80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ектор расстояний, рассылаемый из ‚ , с элементом A=16 достигает узла ƒ , но по какой-то причине задерживается на пути в „ . Согласно дополнениям к алгоритму рассылки векторов расстояний, приведенным в предыдущем пункте, узел ƒ вносит в свою таблицу запись А=16à ‚ и рассылает вектор с элементом А=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433B-6268-4533-889A-2D99F1D704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2546280"/>
            <a:ext cx="78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В этот момент узел „ , до которого сообщение от узла ‚ о недостижимости сети А еще не дошло, рассылает в сети Е свой вектор с элементом А=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8311-E136-43D5-AFF2-968ACEE1D2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7400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Узел ‚ , руководствуясь теми же соображениями, что и узел ƒ ранее, модифицирует свою таблицу: А=4à ƒ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1773720"/>
            <a:ext cx="79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Узел ƒ получает этот вектор, прибавляет к расстоянию 1 и замечает, что оно меньше записанного в таблице (бесконечность), следовательно, в таблице маршрутов узла ƒ появляется запись А=3à „ . Вектор расстояний с элементом А=3 рассылается узлом ƒ в сети С и достигает узла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4360" y="1480680"/>
            <a:ext cx="79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мерно в это время узел „ получает наконец-то вектор А=16, отправленный после аварии узлом ‚ , но вслед за этим из узла ‚ приходит вектор А=4, который узел ‚ рассылает в сети D. Поскольку „ отправляет дейтаграммы в сеть А через ‚ , он обязан реагировать на любые объявления узлом ‚ расстояния до сети А. Поэтому в таблице узла „ появляется А=5à ‚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47640" y="740160"/>
            <a:ext cx="7956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3. 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Существуют две версии протокола RIP: RIP-1 и RIP-2. Версия 2 имеет некоторые усовершенствования, как то: возможность маршрутизации сетей по модели CIDR (кроме адреса сети передается и маска), поддержка мультикастинга, возможность использования аутентификации RIP-сообщений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47640" y="1770840"/>
            <a:ext cx="813744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лгоритм построения таблицы маршру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собые случа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ализация протокола 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1280" y="475920"/>
            <a:ext cx="795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Типы и формат сооб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протоколе RIP имеются два типа сообщений, которыми обмениваются маршрутизат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твет (response) - рассылка вектора расстоя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прос (request) - маршрутизатор (например, после своей загрузки) запрашивает у соседей их маршрутные таблицы или данные об определенном маршру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мен сообщениями происходит по порту 520 UD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58920" y="15876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Формат сообщений обоих типов одинаков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1030680" y="2239200"/>
            <a:ext cx="11080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RIP packet format"/>
          <p:cNvPicPr/>
          <p:nvPr/>
        </p:nvPicPr>
        <p:blipFill>
          <a:blip r:embed="rId1"/>
          <a:stretch/>
        </p:blipFill>
        <p:spPr>
          <a:xfrm>
            <a:off x="503280" y="1449360"/>
            <a:ext cx="8316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76360" y="725760"/>
            <a:ext cx="79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Command" определяет тип сообщения: 1 - request, 2 - response; поле "Version" - версию протокола (1 или 2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ле "Address Family Identifier" содержит значение 2, которое обозначает семейство адресов IP; другие значения не определены. Поля "IP address" и "Metric" содержат адрес сети и расстояние до не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1640" y="1089000"/>
            <a:ext cx="82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и получении сообщения типа "ответ" для каждого содержащегося в нем элемента вектора расстояний модуль RIP выполняет следующие действ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 корректность адреса сети и маски, указанных в сообщен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веряет, не превышает ли метрика (расстояние до сети) бесконе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некорректный элемент игнориру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66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39640" y="201744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если метрика меньше бесконечности, она увеличивается на 1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изводится поиск сети, указанной в рассматриваемом элементе вектора расстояний, в таблице маршрут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55640" y="1413000"/>
            <a:ext cx="795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запись о такой сети в таблице маршрутов отсутствует и метрика в полученном элементе вектора меньше бесконечности, сеть вносится в таблицу маршрутов с указанной метрикой; в поле "Следующий маршрутизатор" заносится адрес маршрутизатора, приславшего сообщение; запускается таймер для этой записи в таблиц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19280" y="1917720"/>
            <a:ext cx="79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если искомая запись присутствует в таблице с метрикой больше, чем объявленная в полученном векторе, в таблицу вносятся новые метрика и, соответственно, адрес следующего маршрутизатора; таймер для этой записи перезапускает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1197000"/>
            <a:ext cx="7920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если искомая запись присутствует в таблице и отправителем полученного вектора был маршрутизатор, указанный в поле "Следующий маршрутизатор" этой записи, то таймер для этой записи перезапускается; более того, если при этом метрика в таблице отличается от метрики в полученном векторе расстояний, в таблицу вносится значение метрики из полученного векто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-  во всех прочих случаях рассматриваемый элемент вектора расстояний игнориру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7280" y="298440"/>
            <a:ext cx="8353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Общий порядок действий при конфигурировании модуля RIP следующ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, какие сети, подключенные к маршрутизатору, будут включены в RIP-систем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nonbroadcast networks", т.е. сети со статической маршрутизацией (например, тупиковые сети, подсоединенные к внешнему миру через единственный шлюз), куда не нужно рассылать векторы расстоя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- указать "permanent routes" - статические маршруты, например, маршрут по умолчанию за пределы автономной сис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1341360"/>
            <a:ext cx="7777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айте сравнительную характеристику протоколов RIP и OSPF. Определите область применения каждого из н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 какому типу протокола маршрутизации относиться 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часто распространяется вектор расстояний в RIP системе по умолча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Исключительные ситуации в RIP системе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В чем отличие версии протокола RIP-1 от RIP-2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83CA-CF2A-4AB2-B559-6852AD79C2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683360"/>
            <a:ext cx="817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отокол RIP является дистанционно-векторным протоколом внутренней маршрутизации. Процесс работы протокола состоит в рассылке, получении и обработке векторов расстояний до IP-сетей, находящихся в области действия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FF41-83DD-4A4C-B56F-D547B98A33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933920"/>
            <a:ext cx="795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Результатом работы протокола на конкретном маршрутизаторе является таблица, где для каждой сети данной RIP-системы указано расстояние до этой сети (в хопах) и адрес следующего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6393-FA88-4C6D-8B2F-ED2330D651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90432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. Алгоритм построения таблицы маршр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А=2à 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о означает, что расстояние от данного маршрутизатора до сети А равно 2, а дейтаграммы, следующие в сеть А, надо пересылать маршрутизатору ƒ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3970-02A4-48E6-BECB-A23448A58C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640" y="193320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Вектором расстояний называется набор пар ("Сеть", "Расстояние до этой сети"), извлеченный из таблицы маршру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о элементом вектора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A465-DB34-44D8-A6ED-FC15AA94B4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1700280"/>
            <a:ext cx="7885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, на котором запущен модуль RIP, периодически широковещательно распространяет свой вектор расстояний. Вектор распространяется через все интерфейсы маршрутизатора, подключенные к сетям, входящим в RIP-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Каждый маршрутизатор также периодически получает векторы расстояний от других маршрутизаторов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1FC6-7F4E-41B4-9856-89CB767A33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60280"/>
            <a:ext cx="81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Tahoma"/>
              </a:rPr>
              <a:t>Пример построения таблицы маршру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Здесь  , ‚ , ƒ , „  - маршрутизаторы, A, B, C, D, E - сети. Хосты в сетях не показаны за ненадобностью. Мы будем следить за формированием таблицы маршрутов в узле 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70930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3:48Z</dcterms:modified>
  <cp:revision>148</cp:revision>
  <dc:subject/>
  <dc:title>Lecture Template </dc:title>
</cp:coreProperties>
</file>